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6DE-F717-4C9C-87DB-047978E2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17E-0CDC-4C13-9A26-387D6E6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920-3DB5-4C96-B24A-39B264CA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563-A9B0-4D72-9B62-96528B8F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70F9-C200-4C07-85BA-7F190364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53CF-B90C-44B9-85D2-B4B4D877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E0C6-B224-42EA-A373-590F9A45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2DD7-E113-408D-BCDF-A73E111D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BF8C-3A05-42A0-9E47-5EEBF00B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60B8-D85E-4ECA-A1F1-127AE499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D242-B853-49F5-A2DF-3A7A7F3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7D8-94CF-4613-9F0B-FA46F65D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9C2F-28A9-4DAA-8E30-A44DC7DB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2FF8-EB81-4BEA-8EC7-5F756086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E254-4B4A-41CF-8515-C3570FF9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C5B5-12B7-4965-ADE8-B77F14F1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94B3-6462-4969-A1C6-87D2B4AC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48BD7-8D15-49C9-8110-12C42FD1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08916-911C-4F77-BFDA-D1C97F86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2A1AA-EFFF-4DB0-96A5-9F5F2486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5278B-18A7-419C-A53D-5EEE3854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B1235-EEFE-4077-B674-55E3CBD9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E48-C32F-49B5-9BEF-A6A37F11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F428A-FAFE-4F26-8A9F-9E25C3A3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EC016-78E7-4BAE-9124-666151F5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9BF51-59B2-4DC2-B663-F017AE5D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B8FD4-4573-4DD5-8EB7-52E337C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0620E-825A-4DC6-9C67-FD0B810D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08790-0665-4D4C-AB6D-A0FC297B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98719-6DB0-4039-B088-0FD2A48D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66CC-178C-467E-A5C7-D9B0F009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408FF-749A-4E7D-BF26-9D31A542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C943-EAD1-4A89-96C9-947FF0B8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43F-14D6-46F9-92E4-F2EBD793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4199-8F04-4602-A69E-9CEBEA7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8AB5-76F1-43B6-9A54-223136A5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6723-55FC-4223-A8D3-28D79CE4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6489-5E5B-4326-9263-9C5498DE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149B-40A4-4DC9-9103-AC74C45C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442C-0BA3-4B3F-8074-20D1AECB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5F69-6EB9-4303-816D-150E9767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ED2E-10EA-4D36-96BC-A651C9BA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5566-8CBC-4C8E-8540-487AF0D2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47766-7853-4E76-8672-EBDD84DF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8F8-B7D1-46AC-9F35-A162155C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A6226-3F15-4343-BBE7-DCF7649B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8366C-3CBD-4453-99E4-0260809E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CDAA0-DA7E-40C4-8FD2-9B8F74CB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1A1EC-78A5-4E31-A0F5-C243D1B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EF1DC-F33A-459F-BB98-A18D33F2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5B5F8-ECC8-434B-84BB-64CC8D7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2AE46-886E-4A3F-820E-86FDEBC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02951-4F29-4118-864A-49471E4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D2C32-5753-44C1-ADE2-19415E22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FCCC0-2C41-4318-AB6E-DE3F08E9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6E3-5010-4877-ACF7-DE86B9D8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C64FF-DE16-4B82-B36F-565552AF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0E1EA-53BF-43FE-8802-3D8E1509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277B3-4E1F-46B0-8913-1DE75D46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3E290-2282-4CD0-898D-7385FCAE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25E36-FB03-4E8E-8B9F-8A66B9A0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E1690-6BB5-470F-B95E-DD616667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42A55-9B4A-4F59-B14F-C10FA5E3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3F69C-B666-4BDD-BCF7-EE0540D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77922-A158-40C3-88CA-613E5370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04A71-88C5-4176-8AF1-4FABCF5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595-3D9D-48F9-B18A-7FADC39F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909FD7-D6D6-48D5-A3F2-C9928DA9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B3A10-D39B-4FEE-8133-799F39BB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69C7F-D3A3-4E9F-B88F-D3E337E6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BFD3D-11B4-48E3-8CB5-313F50DF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86BE2-FBF1-40F5-94C7-E593B078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41DB8-47E1-4EF4-8385-19387121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FBF53-0677-49A7-AE37-98CFD9B8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1ED1C-6D1C-44B9-9595-447377F8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09B85-F1A3-4DE2-92BE-43754F38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E7081-CFA9-49A1-803F-C1AEA87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8E2-0B13-4EE1-A6FC-A3C57A5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FDD5D-A386-4B19-83C2-E67E04ED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6FC55-4318-4AC1-9BB1-D23DDC73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58BBB-DE4E-4CCD-A579-589E12A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70611-27CC-412E-8C79-1E084E5E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955C1-9335-4172-9798-2E1C9DDC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231-0BB8-4920-A889-77DBA2BA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C05-1B28-4805-A822-67D5E416FA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AF05-A760-41BC-943A-9E51ED7F45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9FE-34EE-463E-9C8C-31B32858DE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6CDB-428B-402B-90B2-352DF221C2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2E12-B939-464A-BBD3-61EE3BAEA0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2199-D109-48E1-BEC0-EC8B5E7DA9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1342-B901-4A21-8577-6ED0217E58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152280" y="1219320"/>
            <a:ext cx="5790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ANATOMY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OF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 THE PITUITARY GLAN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6" descr="postcard-01"/>
          <p:cNvPicPr/>
          <p:nvPr/>
        </p:nvPicPr>
        <p:blipFill>
          <a:blip r:embed="rId1"/>
          <a:stretch/>
        </p:blipFill>
        <p:spPr>
          <a:xfrm>
            <a:off x="5407200" y="-79200"/>
            <a:ext cx="381600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 rot="5400000">
            <a:off x="3371400" y="3200400"/>
            <a:ext cx="6308640" cy="45720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68c4"/>
                </a:solidFill>
                <a:latin typeface="Century Schoolbook"/>
              </a:rPr>
              <a:t>IMPORTANT RELATIONS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696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IO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iaphragma sella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ERIOR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phenoidal air sinus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TERAL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avernous sinus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Content Placeholder 8" descr="pituitary 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381880" cy="106668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68c4"/>
                </a:solidFill>
                <a:latin typeface="Century Schoolbook"/>
              </a:rPr>
              <a:t>SUBDIVISIONS OF PITUITARY GLAND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4266720"/>
            <a:ext cx="89154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e gland is subdivided into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1) Anterior lobe (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Arial"/>
              </a:rPr>
              <a:t>Adenohypophysis</a:t>
            </a: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)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t i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rue gland, Secretes hormon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2) Posterior lobe (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Arial"/>
              </a:rPr>
              <a:t>Neurohypophysis</a:t>
            </a: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nnected to hypothalamus through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hypothalamo-hypophyseal tract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Stores hormones secreted by hypothalamic nucle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Content Placeholder 4" descr="pituitary 2.jpg"/>
          <p:cNvPicPr/>
          <p:nvPr/>
        </p:nvPicPr>
        <p:blipFill>
          <a:blip r:embed="rId1"/>
          <a:stretch/>
        </p:blipFill>
        <p:spPr>
          <a:xfrm>
            <a:off x="2590920" y="1600200"/>
            <a:ext cx="51307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6" name="Oval 6"/>
          <p:cNvSpPr/>
          <p:nvPr/>
        </p:nvSpPr>
        <p:spPr>
          <a:xfrm flipH="1">
            <a:off x="5333400" y="21337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5105520" y="2286000"/>
            <a:ext cx="3045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0"/>
          <p:cNvSpPr/>
          <p:nvPr/>
        </p:nvSpPr>
        <p:spPr>
          <a:xfrm>
            <a:off x="5105520" y="3429000"/>
            <a:ext cx="1522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2"/>
          <p:cNvSpPr/>
          <p:nvPr/>
        </p:nvSpPr>
        <p:spPr>
          <a:xfrm flipH="1">
            <a:off x="5029200" y="3429000"/>
            <a:ext cx="763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195960" y="2286000"/>
            <a:ext cx="262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Hypothalamo-hypophyse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Straight Arrow Connector 17"/>
          <p:cNvCxnSpPr>
            <a:stCxn id="410" idx="1"/>
          </p:cNvCxnSpPr>
          <p:nvPr/>
        </p:nvCxnSpPr>
        <p:spPr>
          <a:xfrm flipH="1" flipV="1">
            <a:off x="5333760" y="2513880"/>
            <a:ext cx="762480" cy="34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34560"/>
            <a:ext cx="8915400" cy="870120"/>
          </a:xfrm>
          <a:prstGeom prst="rect">
            <a:avLst/>
          </a:prstGeom>
          <a:solidFill>
            <a:srgbClr val="d9d41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BLOOD SUPPLY OF PITUITARY GLAND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4952520"/>
            <a:ext cx="792504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RTERI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uperior &amp; inferior hypophyseal arteries (branches of internal carotid arter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VEINS:</a:t>
            </a:r>
            <a:r>
              <a:rPr b="1" lang="en-US" sz="2000" spc="-1" strike="noStrike">
                <a:solidFill>
                  <a:srgbClr val="3818f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818f6"/>
                </a:solidFill>
                <a:latin typeface="Arial"/>
                <a:ea typeface="Arial"/>
              </a:rPr>
              <a:t>Hypophyseal veins drain into Cavernous Sinus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34920" y="838080"/>
            <a:ext cx="86868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68c4"/>
                </a:solidFill>
                <a:latin typeface="Century Schoolbook"/>
              </a:rPr>
              <a:t>DISTRIBUTION OF ARTER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6" name="Content Placeholder 8" descr="pituitary 11.jpg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3218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7" name="TextBox 9"/>
          <p:cNvSpPr/>
          <p:nvPr/>
        </p:nvSpPr>
        <p:spPr>
          <a:xfrm>
            <a:off x="0" y="5149800"/>
            <a:ext cx="90946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uperior hypophyseal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lies infundibulum &amp; forms a capillary  network from which vessels pass downward &amp; form sinusoids into the anterior lobe of pituitary glan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(hypophyseal portal system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Inferior hypophyseal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lies posterior lobe of pituitary gland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3124080" y="2286000"/>
            <a:ext cx="13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a hypothalam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pophse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ortal ves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2"/>
          <a:stretch/>
        </p:blipFill>
        <p:spPr>
          <a:xfrm>
            <a:off x="4357800" y="1066680"/>
            <a:ext cx="478620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"/>
          <p:cNvSpPr/>
          <p:nvPr/>
        </p:nvSpPr>
        <p:spPr>
          <a:xfrm>
            <a:off x="4548240" y="2514600"/>
            <a:ext cx="10144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543800" y="4489560"/>
            <a:ext cx="15508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"/>
          <p:cNvSpPr/>
          <p:nvPr/>
        </p:nvSpPr>
        <p:spPr>
          <a:xfrm>
            <a:off x="4548240" y="4343400"/>
            <a:ext cx="1166760" cy="533520"/>
          </a:xfrm>
          <a:prstGeom prst="ellipse">
            <a:avLst/>
          </a:prstGeom>
          <a:noFill/>
          <a:ln w="25560">
            <a:solidFill>
              <a:srgbClr val="3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7977240" y="3948120"/>
            <a:ext cx="1166760" cy="533520"/>
          </a:xfrm>
          <a:prstGeom prst="ellipse">
            <a:avLst/>
          </a:prstGeom>
          <a:noFill/>
          <a:ln w="25560">
            <a:solidFill>
              <a:srgbClr val="3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rmone-releasing &amp; inhibiting factor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roduced by hypothalamus use </a:t>
            </a:r>
            <a:r>
              <a:rPr b="1" lang="en-US" sz="32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Hypophyseal Portal System</a:t>
            </a:r>
            <a:r>
              <a:rPr b="1" lang="en-US" sz="3200" spc="-1" strike="noStrike">
                <a:solidFill>
                  <a:srgbClr val="3818f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f vessels to reach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erior lo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f pituitary glan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2" descr="C:\Documents and Settings\user1\My Documents\My Pictures\pituitary 12.png"/>
          <p:cNvPicPr/>
          <p:nvPr/>
        </p:nvPicPr>
        <p:blipFill>
          <a:blip r:embed="rId1"/>
          <a:stretch/>
        </p:blipFill>
        <p:spPr>
          <a:xfrm>
            <a:off x="4952880" y="1523880"/>
            <a:ext cx="41911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TextBox 3"/>
          <p:cNvSpPr/>
          <p:nvPr/>
        </p:nvSpPr>
        <p:spPr>
          <a:xfrm>
            <a:off x="1905120" y="457200"/>
            <a:ext cx="4572000" cy="703440"/>
          </a:xfrm>
          <a:prstGeom prst="rect">
            <a:avLst/>
          </a:prstGeom>
          <a:solidFill>
            <a:srgbClr val="fd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ANTERIOR 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49528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eurohypophysis receives a nerve supply from some of the hypothalamic nuclei (</a:t>
            </a:r>
            <a:r>
              <a:rPr b="0" lang="en-US" sz="2800" spc="-1" strike="noStrike">
                <a:solidFill>
                  <a:srgbClr val="92d050"/>
                </a:solidFill>
                <a:latin typeface="Arial"/>
                <a:ea typeface="Arial"/>
              </a:rPr>
              <a:t>supraop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800" spc="-1" strike="noStrike">
                <a:solidFill>
                  <a:srgbClr val="92d050"/>
                </a:solidFill>
                <a:latin typeface="Arial"/>
                <a:ea typeface="Arial"/>
              </a:rPr>
              <a:t>paraventr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xons of these  nuclei convey their neurosecretion to </a:t>
            </a:r>
            <a:r>
              <a:rPr b="0" lang="en-US" sz="2800" spc="-1" strike="noStrike">
                <a:solidFill>
                  <a:srgbClr val="eb6e5a"/>
                </a:solidFill>
                <a:latin typeface="Arial"/>
                <a:ea typeface="Arial"/>
              </a:rPr>
              <a:t>the Posterior lo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pituitary gland through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Hypothalamo-Hypophyseal tract from where it passes into the blood stream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8" name="Picture 2" descr="C:\Documents and Settings\user1\My Documents\My Pictures\pituitary 12.png"/>
          <p:cNvPicPr/>
          <p:nvPr/>
        </p:nvPicPr>
        <p:blipFill>
          <a:blip r:embed="rId1"/>
          <a:stretch/>
        </p:blipFill>
        <p:spPr>
          <a:xfrm>
            <a:off x="4903920" y="950760"/>
            <a:ext cx="4267080" cy="590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TextBox 3"/>
          <p:cNvSpPr/>
          <p:nvPr/>
        </p:nvSpPr>
        <p:spPr>
          <a:xfrm>
            <a:off x="1905120" y="304920"/>
            <a:ext cx="4343400" cy="642600"/>
          </a:xfrm>
          <a:prstGeom prst="rect">
            <a:avLst/>
          </a:prstGeom>
          <a:solidFill>
            <a:srgbClr val="fd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OSTERIOR 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https://fbcdn-sphotos-b-a.akamaihd.net/hphotos-ak-xfp1/v/t1.0-9/12191526_768885859900903_8375571140430087867_n.jpg?oh=be6b2d1b4bf9787e7b0ce667d5ad389c&amp;oe=56C14D76&amp;__gda__=1456500735_4be071f6bee9ecd910b1b95a3904865a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http://3.bp.blogspot.com/-ESBFPNzpmUY/UBYBOPeyXrI/AAAAAAAADe4/3n1Kf6NRN-0/s1600/thank+you2.jpg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68c4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5c01"/>
                </a:solidFill>
                <a:latin typeface="Arial"/>
                <a:ea typeface="Arial"/>
              </a:rPr>
              <a:t>	</a:t>
            </a:r>
            <a:r>
              <a:rPr b="1" i="1" lang="en-US" sz="3200" spc="-1" strike="noStrike">
                <a:solidFill>
                  <a:srgbClr val="3668c4"/>
                </a:solidFill>
                <a:latin typeface="Arial"/>
                <a:ea typeface="Arial"/>
              </a:rPr>
              <a:t>At the end of the lecture, students should be able to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Describe the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position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of the pituitary glan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List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the structures related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to the pituitary glan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Differentiate betwee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the lobes of the gland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Describe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the blood supply 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of pituitary gland 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&amp; the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hypophyseal portal system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PITUITARY GLAND</a:t>
            </a:r>
            <a:br>
              <a:rPr sz="2800"/>
            </a:b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(HYPOPHYSIS CEREBRI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4800600"/>
            <a:ext cx="80010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referred to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aster of endocrine glan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a small oval structure 1 cm in diame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C:\Documents and Settings\user1\My Documents\My Pictures\PITUITARY.jpg"/>
          <p:cNvPicPr/>
          <p:nvPr/>
        </p:nvPicPr>
        <p:blipFill>
          <a:blip r:embed="rId1"/>
          <a:stretch/>
        </p:blipFill>
        <p:spPr>
          <a:xfrm>
            <a:off x="2590920" y="1600200"/>
            <a:ext cx="4724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668c4"/>
                </a:solidFill>
                <a:latin typeface="Century Schoolbook"/>
              </a:rPr>
              <a:t>PITUITARY GLAND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Content Placeholder 12" descr="hypophyseal fossa.jpg"/>
          <p:cNvPicPr/>
          <p:nvPr/>
        </p:nvPicPr>
        <p:blipFill>
          <a:blip r:embed="rId1"/>
          <a:stretch/>
        </p:blipFill>
        <p:spPr>
          <a:xfrm>
            <a:off x="228600" y="266688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360" name="Content Placeholder 10" descr="pituitary 4.jpg"/>
          <p:cNvPicPr/>
          <p:nvPr/>
        </p:nvPicPr>
        <p:blipFill>
          <a:blip r:embed="rId2"/>
          <a:stretch/>
        </p:blipFill>
        <p:spPr>
          <a:xfrm>
            <a:off x="4952880" y="2476440"/>
            <a:ext cx="3881520" cy="3886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11840" y="1783080"/>
            <a:ext cx="4052880" cy="577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X-RAY SKULL: LATERAL VIE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78920" y="1783080"/>
            <a:ext cx="4281480" cy="577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Schoolbook"/>
              </a:rPr>
              <a:t>SAGITTAL SECTION OF HEAD &amp; NECK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42400" y="350532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Hypophyseal fo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5"/>
          <p:cNvCxnSpPr>
            <a:stCxn id="363" idx="2"/>
          </p:cNvCxnSpPr>
          <p:nvPr/>
        </p:nvCxnSpPr>
        <p:spPr>
          <a:xfrm>
            <a:off x="1997640" y="3874680"/>
            <a:ext cx="897480" cy="926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5" name="TextBox 16"/>
          <p:cNvSpPr/>
          <p:nvPr/>
        </p:nvSpPr>
        <p:spPr>
          <a:xfrm>
            <a:off x="3478680" y="632448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Sphenoidal air s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20"/>
          <p:cNvCxnSpPr/>
          <p:nvPr/>
        </p:nvCxnSpPr>
        <p:spPr>
          <a:xfrm flipV="1">
            <a:off x="4952520" y="4495320"/>
            <a:ext cx="2134440" cy="2015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7" name="Straight Arrow Connector 22"/>
          <p:cNvCxnSpPr>
            <a:stCxn id="365" idx="0"/>
          </p:cNvCxnSpPr>
          <p:nvPr/>
        </p:nvCxnSpPr>
        <p:spPr>
          <a:xfrm flipH="1" flipV="1">
            <a:off x="3047760" y="4876200"/>
            <a:ext cx="1675440" cy="144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8" name="TextBox 23"/>
          <p:cNvSpPr/>
          <p:nvPr/>
        </p:nvSpPr>
        <p:spPr>
          <a:xfrm>
            <a:off x="7749000" y="274320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w Cen MT"/>
              </a:rPr>
              <a:t>Pitu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w Cen MT"/>
              </a:rPr>
              <a:t>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25"/>
          <p:cNvCxnSpPr>
            <a:stCxn id="368" idx="1"/>
          </p:cNvCxnSpPr>
          <p:nvPr/>
        </p:nvCxnSpPr>
        <p:spPr>
          <a:xfrm flipH="1">
            <a:off x="6933960" y="3066120"/>
            <a:ext cx="915120" cy="1353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ontent Placeholder 8" descr="cranialfossanx6.jpg"/>
          <p:cNvPicPr/>
          <p:nvPr/>
        </p:nvPicPr>
        <p:blipFill>
          <a:blip r:embed="rId1"/>
          <a:stretch/>
        </p:blipFill>
        <p:spPr>
          <a:xfrm>
            <a:off x="762120" y="2362320"/>
            <a:ext cx="3616200" cy="3886200"/>
          </a:xfrm>
          <a:prstGeom prst="rect">
            <a:avLst/>
          </a:prstGeom>
          <a:ln w="0">
            <a:noFill/>
          </a:ln>
        </p:spPr>
      </p:pic>
      <p:pic>
        <p:nvPicPr>
          <p:cNvPr id="371" name="Content Placeholder 9" descr="250px-Sella_turcica.jpg"/>
          <p:cNvPicPr/>
          <p:nvPr/>
        </p:nvPicPr>
        <p:blipFill>
          <a:blip r:embed="rId2"/>
          <a:stretch/>
        </p:blipFill>
        <p:spPr>
          <a:xfrm>
            <a:off x="4876920" y="25146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11840" y="1630800"/>
            <a:ext cx="4052880" cy="577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8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t lies in the middle cranial foss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38760" y="1638720"/>
            <a:ext cx="3809160" cy="714960"/>
          </a:xfrm>
          <a:prstGeom prst="rect">
            <a:avLst/>
          </a:prstGeom>
          <a:solidFill>
            <a:srgbClr val="acc1e8"/>
          </a:solidFill>
          <a:ln w="0">
            <a:noFill/>
          </a:ln>
        </p:spPr>
        <p:txBody>
          <a:bodyPr anchor="ctr">
            <a:normAutofit fontScale="7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is well protected in sella turcica (hypophyseal fossa) of  body of sphenoi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TextBox 10"/>
          <p:cNvSpPr/>
          <p:nvPr/>
        </p:nvSpPr>
        <p:spPr>
          <a:xfrm>
            <a:off x="5742000" y="25909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Sella turc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Arrow Connector 14"/>
          <p:cNvCxnSpPr>
            <a:stCxn id="374" idx="2"/>
          </p:cNvCxnSpPr>
          <p:nvPr/>
        </p:nvCxnSpPr>
        <p:spPr>
          <a:xfrm flipH="1">
            <a:off x="6324120" y="2960280"/>
            <a:ext cx="207360" cy="4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Straight Arrow Connector 16"/>
          <p:cNvCxnSpPr>
            <a:stCxn id="374" idx="2"/>
          </p:cNvCxnSpPr>
          <p:nvPr/>
        </p:nvCxnSpPr>
        <p:spPr>
          <a:xfrm>
            <a:off x="6531120" y="2960640"/>
            <a:ext cx="32760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7" name="Right Arrow 22"/>
          <p:cNvSpPr/>
          <p:nvPr/>
        </p:nvSpPr>
        <p:spPr>
          <a:xfrm>
            <a:off x="1905120" y="3886200"/>
            <a:ext cx="304560" cy="22860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eft Arrow 23"/>
          <p:cNvSpPr/>
          <p:nvPr/>
        </p:nvSpPr>
        <p:spPr>
          <a:xfrm>
            <a:off x="2743200" y="3886200"/>
            <a:ext cx="304920" cy="228600"/>
          </a:xfrm>
          <a:prstGeom prst="lef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2"/>
          <p:cNvSpPr/>
          <p:nvPr/>
        </p:nvSpPr>
        <p:spPr>
          <a:xfrm>
            <a:off x="2133720" y="457200"/>
            <a:ext cx="3962160" cy="642600"/>
          </a:xfrm>
          <a:prstGeom prst="rect">
            <a:avLst/>
          </a:prstGeom>
          <a:solidFill>
            <a:srgbClr val="e3e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09120" y="5105160"/>
            <a:ext cx="80773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t lies between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optic chiasm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anteriorly) &amp;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mamillary bodies of hypothalamu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posteriorly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user1\My Documents\My Pictures\mayo_pituitary_gland.jpg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33526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7194600" y="358128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Mamillary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Straight Arrow Connector 6"/>
          <p:cNvCxnSpPr>
            <a:stCxn id="382" idx="1"/>
          </p:cNvCxnSpPr>
          <p:nvPr/>
        </p:nvCxnSpPr>
        <p:spPr>
          <a:xfrm flipH="1" flipV="1">
            <a:off x="4648320" y="3657240"/>
            <a:ext cx="2667240" cy="108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4" name="TextBox 8"/>
          <p:cNvSpPr/>
          <p:nvPr/>
        </p:nvSpPr>
        <p:spPr>
          <a:xfrm>
            <a:off x="-128520" y="32004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Optic chi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traight Arrow Connector 16"/>
          <p:cNvCxnSpPr>
            <a:stCxn id="384" idx="3"/>
          </p:cNvCxnSpPr>
          <p:nvPr/>
        </p:nvCxnSpPr>
        <p:spPr>
          <a:xfrm>
            <a:off x="1549080" y="3384720"/>
            <a:ext cx="2794680" cy="1972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86" name="TextBox 19"/>
          <p:cNvSpPr/>
          <p:nvPr/>
        </p:nvSpPr>
        <p:spPr>
          <a:xfrm>
            <a:off x="7126920" y="43434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Body of sphen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21"/>
          <p:cNvCxnSpPr>
            <a:stCxn id="386" idx="1"/>
          </p:cNvCxnSpPr>
          <p:nvPr/>
        </p:nvCxnSpPr>
        <p:spPr>
          <a:xfrm flipH="1" flipV="1">
            <a:off x="4495320" y="4038120"/>
            <a:ext cx="2767680" cy="489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7176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1192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http://www.mayfieldclinic.com/Images/PE-Pituitary2b.jpg"/>
          <p:cNvPicPr/>
          <p:nvPr/>
        </p:nvPicPr>
        <p:blipFill>
          <a:blip r:embed="rId1"/>
          <a:stretch/>
        </p:blipFill>
        <p:spPr>
          <a:xfrm>
            <a:off x="76320" y="0"/>
            <a:ext cx="4744800" cy="2971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http://image.slidesharecdn.com/ch18lecturepresentation-130818141631-phpapp02/95/169-ch-18lecturepresentation-43-638.jpg?cb=1376987218"/>
          <p:cNvPicPr/>
          <p:nvPr/>
        </p:nvPicPr>
        <p:blipFill>
          <a:blip r:embed="rId2"/>
          <a:srcRect l="9941" t="0" r="8217" b="0"/>
          <a:stretch/>
        </p:blipFill>
        <p:spPr>
          <a:xfrm>
            <a:off x="4835520" y="0"/>
            <a:ext cx="4322880" cy="685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392" name="Picture 6" descr="http://en.shram.kiev.ua/img/health/anatomy/03.jpg"/>
          <p:cNvPicPr/>
          <p:nvPr/>
        </p:nvPicPr>
        <p:blipFill>
          <a:blip r:embed="rId3"/>
          <a:stretch/>
        </p:blipFill>
        <p:spPr>
          <a:xfrm>
            <a:off x="0" y="2971800"/>
            <a:ext cx="4821120" cy="3886200"/>
          </a:xfrm>
          <a:prstGeom prst="rect">
            <a:avLst/>
          </a:prstGeom>
          <a:ln w="28440">
            <a:solidFill>
              <a:srgbClr val="3818f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7" descr="http://intranet.tdmu.edu.ua/data/kafedra/internal/anatomy/classes_stud/en/nurse/1/bsn/ptn/1/10.%20ENDOCRINE%20GLANDS%20LYMPHATIC%20AND%20IMMUNE%20SYSTEM.files/image005.jpg"/>
          <p:cNvPicPr/>
          <p:nvPr/>
        </p:nvPicPr>
        <p:blipFill>
          <a:blip r:embed="rId1"/>
          <a:stretch/>
        </p:blipFill>
        <p:spPr>
          <a:xfrm>
            <a:off x="228600" y="380880"/>
            <a:ext cx="82296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09480" y="5486040"/>
            <a:ext cx="7925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old of dura mater (Diaphragma sellae) covers the pituitary gland &amp; has an opening for passage of infundibulum (pituitary stalk) connecting the gland to hypothalamu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Content Placeholder 8" descr="pituitary 6.jpg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398" name="Straight Arrow Connector 21"/>
          <p:cNvCxnSpPr/>
          <p:nvPr/>
        </p:nvCxnSpPr>
        <p:spPr>
          <a:xfrm flipH="1">
            <a:off x="4494960" y="2515680"/>
            <a:ext cx="2520" cy="685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9" name="Freeform 61"/>
          <p:cNvSpPr/>
          <p:nvPr/>
        </p:nvSpPr>
        <p:spPr>
          <a:xfrm>
            <a:off x="2651040" y="2884320"/>
            <a:ext cx="3780000" cy="487440"/>
          </a:xfrm>
          <a:custGeom>
            <a:avLst/>
            <a:gdLst/>
            <a:ahLst/>
            <a:rect l="l" t="t" r="r" b="b"/>
            <a:pathLst>
              <a:path w="3779520" h="488727">
                <a:moveTo>
                  <a:pt x="0" y="42186"/>
                </a:moveTo>
                <a:cubicBezTo>
                  <a:pt x="66040" y="47266"/>
                  <a:pt x="131885" y="57426"/>
                  <a:pt x="198120" y="57426"/>
                </a:cubicBezTo>
                <a:cubicBezTo>
                  <a:pt x="214184" y="57426"/>
                  <a:pt x="227776" y="42186"/>
                  <a:pt x="243840" y="42186"/>
                </a:cubicBezTo>
                <a:cubicBezTo>
                  <a:pt x="279761" y="42186"/>
                  <a:pt x="314640" y="55717"/>
                  <a:pt x="350520" y="57426"/>
                </a:cubicBezTo>
                <a:cubicBezTo>
                  <a:pt x="528191" y="65887"/>
                  <a:pt x="706120" y="67586"/>
                  <a:pt x="883920" y="72666"/>
                </a:cubicBezTo>
                <a:cubicBezTo>
                  <a:pt x="924560" y="77746"/>
                  <a:pt x="964922" y="86127"/>
                  <a:pt x="1005840" y="87906"/>
                </a:cubicBezTo>
                <a:lnTo>
                  <a:pt x="1691640" y="118386"/>
                </a:lnTo>
                <a:cubicBezTo>
                  <a:pt x="1578184" y="194023"/>
                  <a:pt x="1709837" y="119835"/>
                  <a:pt x="1447800" y="133626"/>
                </a:cubicBezTo>
                <a:cubicBezTo>
                  <a:pt x="1388728" y="136735"/>
                  <a:pt x="1354734" y="165190"/>
                  <a:pt x="1310640" y="194586"/>
                </a:cubicBezTo>
                <a:cubicBezTo>
                  <a:pt x="1295229" y="217702"/>
                  <a:pt x="1264920" y="254478"/>
                  <a:pt x="1264920" y="286026"/>
                </a:cubicBezTo>
                <a:cubicBezTo>
                  <a:pt x="1264920" y="342136"/>
                  <a:pt x="1262416" y="400435"/>
                  <a:pt x="1280160" y="453666"/>
                </a:cubicBezTo>
                <a:cubicBezTo>
                  <a:pt x="1285240" y="468906"/>
                  <a:pt x="1309854" y="467801"/>
                  <a:pt x="1325880" y="468906"/>
                </a:cubicBezTo>
                <a:cubicBezTo>
                  <a:pt x="1457744" y="478000"/>
                  <a:pt x="1590040" y="479066"/>
                  <a:pt x="1722120" y="484146"/>
                </a:cubicBezTo>
                <a:cubicBezTo>
                  <a:pt x="1955800" y="479066"/>
                  <a:pt x="2190267" y="488727"/>
                  <a:pt x="2423160" y="468906"/>
                </a:cubicBezTo>
                <a:cubicBezTo>
                  <a:pt x="2439167" y="467544"/>
                  <a:pt x="2427041" y="434545"/>
                  <a:pt x="2438400" y="423186"/>
                </a:cubicBezTo>
                <a:cubicBezTo>
                  <a:pt x="2449759" y="411827"/>
                  <a:pt x="2468880" y="413026"/>
                  <a:pt x="2484120" y="407946"/>
                </a:cubicBezTo>
                <a:cubicBezTo>
                  <a:pt x="2489200" y="392706"/>
                  <a:pt x="2499360" y="378290"/>
                  <a:pt x="2499360" y="362226"/>
                </a:cubicBezTo>
                <a:cubicBezTo>
                  <a:pt x="2499360" y="308019"/>
                  <a:pt x="2473506" y="315281"/>
                  <a:pt x="2438400" y="286026"/>
                </a:cubicBezTo>
                <a:cubicBezTo>
                  <a:pt x="2421843" y="272228"/>
                  <a:pt x="2407920" y="255546"/>
                  <a:pt x="2392680" y="240306"/>
                </a:cubicBezTo>
                <a:cubicBezTo>
                  <a:pt x="2387600" y="225066"/>
                  <a:pt x="2387475" y="207130"/>
                  <a:pt x="2377440" y="194586"/>
                </a:cubicBezTo>
                <a:cubicBezTo>
                  <a:pt x="2365998" y="180283"/>
                  <a:pt x="2348555" y="171321"/>
                  <a:pt x="2331720" y="164106"/>
                </a:cubicBezTo>
                <a:cubicBezTo>
                  <a:pt x="2285525" y="144308"/>
                  <a:pt x="2161135" y="136685"/>
                  <a:pt x="2133600" y="133626"/>
                </a:cubicBezTo>
                <a:cubicBezTo>
                  <a:pt x="2103120" y="123466"/>
                  <a:pt x="2011680" y="113306"/>
                  <a:pt x="2042160" y="103146"/>
                </a:cubicBezTo>
                <a:cubicBezTo>
                  <a:pt x="2351597" y="0"/>
                  <a:pt x="2095979" y="80144"/>
                  <a:pt x="2926080" y="72666"/>
                </a:cubicBezTo>
                <a:lnTo>
                  <a:pt x="3779520" y="726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1:54:12Z</dcterms:created>
  <dc:creator>user1</dc:creator>
  <dc:description/>
  <dc:language>en-US</dc:language>
  <cp:lastModifiedBy>Rania Jabr</cp:lastModifiedBy>
  <dcterms:modified xsi:type="dcterms:W3CDTF">2016-01-17T18:32:55Z</dcterms:modified>
  <cp:revision>77</cp:revision>
  <dc:subject/>
  <dc:title>ANATOMY  OF  THE PITUITARY GLAND</dc:title>
</cp:coreProperties>
</file>